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3F8-C49D-44C9-A297-1F0E7CEB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2816-C24F-41B2-AA10-31C2DF1F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076D-5BF9-4F0A-B03F-23B71C4B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9CE-E915-44DD-A23D-6D127F5F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CC1A-EA64-41F8-A487-BBA836EA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08DA-47FF-46F7-97D8-B4CA6547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D0CD-8552-437B-9ABD-9C59C287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AD11-4606-4B0D-817B-F37740C5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4E9B-6635-4716-B3BD-9B35BA11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FF05-E147-4C8C-BC52-A5125B99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9576-8568-4B9B-BDBC-B7B15F02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4605-B7D0-4CBB-B8D0-9039DEEC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73E6-63A6-41BF-8971-7C33CC5B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F7AD-844A-44D3-AC81-6E935099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8061-7887-4A77-9740-28BBEEB1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7229-61B4-4829-A03D-B56534E1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9C6C-4859-4414-B929-A1816B1F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742C-DC1B-47D4-8B0C-A9BA50BB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426-98C5-48B4-BFA3-52755E88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0D43-3691-414D-B829-0082F344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73E2-59C5-44DA-8B29-ECC1A22B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EED-C020-4F7E-8AE5-A39B65AD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2760-D52F-4776-A072-FF4B67B6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A35-40CF-4E85-91A1-BB9EB127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DAA8-69CC-4F40-B542-FE656BFA77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55CD-2DC1-4745-861F-1D716E2E2D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ocial Though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 19th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am Smi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Wealth of Nations-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rgued against mercantilist the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bor was most important factor of 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ketplace controlled the econ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issez-faire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cial Darwinism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rigin of the Spec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185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evolved from lower forms of lif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ival of the fittest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rupts church bel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ocial Darwinism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cial order is product of natural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ior” groups out-compete “inferior” grou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iam Graham Sumn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ospel of Wealth/Social Darwinis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paragraph explaining how Social Darwinism and the gospel of wealth are rela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ttlement House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e Adda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lement Houses- centers of women’s activism &amp; social refor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d services for immigrants &amp; sought to remedy pov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ll Hou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think settlement houses were affected by the idea of Gospel of Weal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4T13:39:11Z</dcterms:created>
  <dc:creator>FBISD</dc:creator>
  <dc:description/>
  <dc:language>en-US</dc:language>
  <cp:lastModifiedBy>emily.johnson</cp:lastModifiedBy>
  <dcterms:modified xsi:type="dcterms:W3CDTF">2013-01-16T21:49:18Z</dcterms:modified>
  <cp:revision>5</cp:revision>
  <dc:subject/>
  <dc:title>Social Thought</dc:title>
</cp:coreProperties>
</file>